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240-E7E0-4D3D-B60E-A9E23C5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197-9BD4-4C5E-99F4-E442E4D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AA6-0A23-42A6-96DA-60E9CF7F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DD6-7257-438E-9DA9-82E14E0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BAF-038B-4616-AD06-73AD711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F61-A64C-4679-8993-6230BE3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41E-B965-4582-8B3D-A7DE2CE1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ADB-F14F-4F29-B834-59EF766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AB9-258D-4FF5-BD66-4971BFD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6B7-7436-4070-A27D-3E74B7F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994-52E6-4D33-8572-17EFCEB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1BF-5C55-4660-B057-5233770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804C-EFBE-474D-8DBB-08B2FCFDD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uardian.co.uk/music/downloads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uardian.co.uk/music/downloa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atest new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lease read the articles o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rill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Do you think their new album is really “free”? Read the first blog entry!)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rat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9:00:29Z</dcterms:created>
  <dc:creator>administrator</dc:creator>
  <dc:description/>
  <dc:language>en-US</dc:language>
  <cp:lastModifiedBy>maninder singh</cp:lastModifiedBy>
  <dcterms:modified xsi:type="dcterms:W3CDTF">2010-12-13T17:25:22Z</dcterms:modified>
  <cp:revision>2</cp:revision>
  <dc:subject/>
  <dc:title>http://www.guardian.co.uk/music/downloads </dc:title>
</cp:coreProperties>
</file>